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C5F-4DEE-48CF-9A6D-FC463CBD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B07-A238-4AF2-B8C8-38DA8995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B82-6C6E-4CD6-9D5A-C3CEC4FB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3EC-B8DC-48B5-A85C-0B620B06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6285-CB23-4162-968E-F07B5FD8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F0D4-57C9-4BA7-A829-D135CB16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AF0A-DF98-4AA6-8AC1-AA79FF48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CBC8-3EAD-4CF7-A0A5-477F224B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15A1-475B-49F3-9A51-4163BE16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9E6F-3DE3-4209-B294-C3E27DDA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EBCD-EFB8-4F7A-9EDB-336C9AF6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B6B-14AE-4E93-8FED-220ABB8D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0BE2-531B-4477-8441-54363EE7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8714-9622-4636-9988-F40CC54C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E7BD-1587-4123-A8F8-9DF96290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1831-4EC7-4030-9E14-657CB401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31F4-255C-465E-BA9D-A3731C2B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6881-D196-46CA-8A93-E2B3DAF0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9336-238F-4965-9287-4BA14E35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4A3E-8D2D-4E5E-B401-F31682D8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8EC6-4895-4F19-9741-691A5C3D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4B2B8-79CA-4F5F-8A15-685AE31A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EE1-39AF-41C0-8EBF-4D904AF1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7394C-0139-4897-AFAA-ACAA9BB6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A340-90A4-4BAB-BE09-99A9A21F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B399-55FE-44F7-9383-C71C484B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2959-9B26-489B-9549-F9664553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B2D8-B21F-4A37-AD1E-6865FB7B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C0F3C-C1E7-4D49-AF75-F101E911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79C5-DBC8-4FA4-8CDA-5DA1FB9E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B2DD5-9012-4F00-8C93-EEFE6884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08D3A-CD42-44F1-BC73-5D8AA760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4E3F7-7B5B-44F5-B2C7-23DC86C2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A90-2199-4E5E-A191-E10E89F9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A2041-7BCB-44B4-B905-58826B90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F97AD-8BB4-4D9E-9EB6-D4871EC4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8C051-6884-45C2-9EC4-7CF4D734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140C-5FAA-456A-BADC-3C213325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3BDF4-4D42-4B3C-80F4-ED523817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EBC56-37AD-4A5B-A3D6-B811B21C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1AE1F-F7B3-4FDA-930D-A68DCD1B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6C84-2748-493A-8422-2454548D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C196-C30B-4E5E-B79F-3E7E7827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3BB91-B844-4620-A3C0-F6DA3822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93B-38EA-468A-8ECF-6ECF9BB9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025F4-5648-4EB8-B1C6-B2228B3D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FD309-BAA9-402E-B84B-0ABE7FE8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87E7-2AF8-41D5-8E52-3B118057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FF614-D90E-4E51-8231-BC24AACE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4FEA3-5404-46C5-918E-88D355BC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08F10-EB32-4A1E-A9F5-80ABF8EE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1306-1950-4E75-8E07-7B7A4CF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6C6A3-28EB-45B2-B2B0-2B7C5B2B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F9694-C673-4C4F-AF33-5CBDD865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21EA6-BCA2-44EA-94D4-B49B5CCA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8CB-9DCD-4C57-8CF2-C636801D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114A5-A882-4622-87E7-96367EB5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42F4E-54B0-4C19-B36A-22E26E80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EF4F9-F07F-4DA5-BD04-C7F33340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C71A3-CF84-40E3-A0E9-05FEA2C6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C4576-EFFB-494E-A981-54297189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33C82-69B2-4E71-9520-3CDF027B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E8653-1FC8-4AB5-AED7-135C926A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23C16-0727-408C-A895-CBA0B3BA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7D0E3-4AF8-4AC4-B429-BA85CC4E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5F0AE-4900-4879-A16E-3A4F4EA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3E2-E023-4316-92AC-905AD4D6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A222B-175B-4395-9464-CCBD6BC7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C51F4-8C3A-4236-A0F4-9D83C7B7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F0A3-F9FB-4F20-A996-A6512375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088C1-C8FF-4856-BA52-DE3AF586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52885-CC4F-43EF-A29A-2BC5FE0D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DA297-F657-423A-9ECF-E5495AA9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40600-4F29-46FD-9279-02EA1FF4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D10A7-11F4-4D8F-8FC5-3D5EC19A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DFD71-3785-4285-B47C-E21102EC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B62AA-637A-432F-85CA-4F519B95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40B-8EF5-4FF3-A39E-E23AD6B5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CD70D-800E-452D-B1B4-F69E45FB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97720-B9D3-46AE-9786-C2E05262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01B7-702F-4F8C-B382-27428463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7283E-59F7-4A43-B6B5-D62F842C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32634-748D-40D1-9404-154CCC15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A2F-6F30-4C8B-8EDF-6EC8C242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3c2b"/>
            </a:gs>
            <a:gs pos="100000">
              <a:srgbClr val="b37b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- Ορθογώνιο τρίγωνο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bddc3">
                  <a:alpha val="1176"/>
                </a:srgbClr>
              </a:gs>
              <a:gs pos="100000">
                <a:srgbClr val="ebddc3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- Ευθεία γραμμή σύνδεσης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8bc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- Ευθεία γραμμή σύνδεσης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ec3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AEF2-57AD-4A40-AB24-4A58A71EAFC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3c2b"/>
            </a:gs>
            <a:gs pos="100000">
              <a:srgbClr val="b37b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- Ορθογώνιο τρίγωνο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bddc3">
                  <a:alpha val="1176"/>
                </a:srgbClr>
              </a:gs>
              <a:gs pos="100000">
                <a:srgbClr val="ebddc3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- Ευθεία γραμμή σύνδεσης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8bc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- Ευθεία γραμμή σύνδεσης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ec3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- Ισοσκελές τρίγωνο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a6a84"/>
              </a:gs>
              <a:gs pos="100000">
                <a:srgbClr val="abd0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5451-4959-4D1C-BA5A-9C6098BC687C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3c2b"/>
            </a:gs>
            <a:gs pos="100000">
              <a:srgbClr val="b37b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- Ορθογώνιο τρίγωνο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bddc3">
                  <a:alpha val="1176"/>
                </a:srgbClr>
              </a:gs>
              <a:gs pos="100000">
                <a:srgbClr val="ebddc3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- Ευθεία γραμμή σύνδεσης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8bc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- Ευθεία γραμμή σύνδεσης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ec3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B7E6-5063-4943-A2D3-D70E23C87D3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- Ορθογώνιο τρίγωνο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bddc3">
                  <a:alpha val="1176"/>
                </a:srgbClr>
              </a:gs>
              <a:gs pos="100000">
                <a:srgbClr val="ebddc3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- Ισοσκελές τρίγωνο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a6a84"/>
              </a:gs>
              <a:gs pos="100000">
                <a:srgbClr val="abd0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2 - Ευθεία γραμμή σύνδεσης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ec3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4 - Ευθεία γραμμή σύνδεσης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8bc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A53E-E911-4066-9012-3BAB9502492C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3c2b"/>
            </a:gs>
            <a:gs pos="100000">
              <a:srgbClr val="b37b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DACA-D521-46C5-ADD5-578C73BA788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3c2b"/>
            </a:gs>
            <a:gs pos="100000">
              <a:srgbClr val="b37b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9612-0652-4920-B1DB-C0457E4132C9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0231-B7AD-40C3-AE81-3582436E4CA6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4.bp.blogspot.com/_08kDyBSw4e0/SxV2PRxPX-I/AAAAAAAACH0/MOfteyYegxQ/s1600/DSC00242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8034480" cy="148104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3" descr=""/>
          <p:cNvPicPr/>
          <p:nvPr/>
        </p:nvPicPr>
        <p:blipFill>
          <a:blip r:embed="rId2"/>
          <a:stretch/>
        </p:blipFill>
        <p:spPr>
          <a:xfrm>
            <a:off x="506520" y="2249640"/>
            <a:ext cx="7704000" cy="2566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971640" y="256536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4 - Εικόνα" descr="IMG_3676.JPG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1 - Τίτλος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3" name="6 - Ορθογώνιο"/>
          <p:cNvSpPr/>
          <p:nvPr/>
        </p:nvSpPr>
        <p:spPr>
          <a:xfrm>
            <a:off x="214200" y="5729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Παρατηρώντας τα εκθέματα του Πάρκου, οι μαθητές συλλέγουν πληροφορίες σχετικά με την εξέλιξη των συνθηκών εργασίας και ασφάλειας μέσα σε ένα μεταλλεί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2 - Εικόνα" descr="IMG_3672.JPG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35" name="1 - Τίτλος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6" name="6 - Ορθογώνιο"/>
          <p:cNvSpPr/>
          <p:nvPr/>
        </p:nvSpPr>
        <p:spPr>
          <a:xfrm>
            <a:off x="857160" y="5657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Οι μαθητές χειρίζονται ακουστικές συσκευές και λαμβάνουν τη πληροφορία που ζητούν για τα εκθέματα του Πάρκο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- Τίτλος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5" name="2 - TextBox"/>
          <p:cNvSpPr/>
          <p:nvPr/>
        </p:nvSpPr>
        <p:spPr>
          <a:xfrm>
            <a:off x="285840" y="1571760"/>
            <a:ext cx="442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Ορυχείο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είναι τόπος -επιφανειακός ή εσωτερικός στη Γη- από τον οποίο εξάγονται χρήσιμα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ορυκτά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κυρίως για τη βιομηχανί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Μεταλλείο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είναι ένα ορυχείο  από όπου εξορύσσονται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μέταλλ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Λατομείο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είναι ένα ορυχείο  από όπου εξορύσσονται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οικοδομικά υλικ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3 - Εικόνα" descr="http://4dimlavrio.gr/lavrio/lavrio.files/image012.jpg"/>
          <p:cNvPicPr/>
          <p:nvPr/>
        </p:nvPicPr>
        <p:blipFill>
          <a:blip r:embed="rId2"/>
          <a:stretch/>
        </p:blipFill>
        <p:spPr>
          <a:xfrm>
            <a:off x="4857840" y="1500120"/>
            <a:ext cx="33573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3 - Εικόνα" descr="http://4.bp.blogspot.com/_08kDyBSw4e0/SxV2PRxPX-I/AAAAAAAACH0/MOfteyYegxQ/s320/DSC0024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1643040"/>
            <a:ext cx="4929120" cy="4500720"/>
          </a:xfrm>
          <a:prstGeom prst="rect">
            <a:avLst/>
          </a:prstGeom>
          <a:ln w="0">
            <a:noFill/>
          </a:ln>
        </p:spPr>
      </p:pic>
      <p:pic>
        <p:nvPicPr>
          <p:cNvPr id="308" name="1 - Τίτλος" descr=""/>
          <p:cNvPicPr/>
          <p:nvPr/>
        </p:nvPicPr>
        <p:blipFill>
          <a:blip r:embed="rId3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9" name="5 - TextBox"/>
          <p:cNvSpPr/>
          <p:nvPr/>
        </p:nvSpPr>
        <p:spPr>
          <a:xfrm>
            <a:off x="285840" y="1643040"/>
            <a:ext cx="357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Από την αρχαιότητα οι άνθρωποι ανέσκαπταν τη γη για την εξόρυξη ιδιαίτερα χρήσιμων υλικώ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Τα αρχαία ορυχεία της Σάμου που βρίσκονται στους Μυτιληνιού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Οι είσοδοι  του Αρχαίου Ορυχείου είναι 45 σπηλιέ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- Τίτλος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912520" cy="1547640"/>
          </a:xfrm>
          <a:prstGeom prst="rect">
            <a:avLst/>
          </a:prstGeom>
          <a:ln w="0">
            <a:noFill/>
          </a:ln>
        </p:spPr>
      </p:pic>
      <p:pic>
        <p:nvPicPr>
          <p:cNvPr id="311" name="2 - Εικόνα" descr="χριστινα65.jpg"/>
          <p:cNvPicPr/>
          <p:nvPr/>
        </p:nvPicPr>
        <p:blipFill>
          <a:blip r:embed="rId2"/>
          <a:stretch/>
        </p:blipFill>
        <p:spPr>
          <a:xfrm>
            <a:off x="0" y="2000160"/>
            <a:ext cx="5238720" cy="3929040"/>
          </a:xfrm>
          <a:prstGeom prst="rect">
            <a:avLst/>
          </a:prstGeom>
          <a:ln w="0">
            <a:noFill/>
          </a:ln>
        </p:spPr>
      </p:pic>
      <p:pic>
        <p:nvPicPr>
          <p:cNvPr id="312" name="3 - Εικόνα" descr="χριστινα71.bmp"/>
          <p:cNvPicPr/>
          <p:nvPr/>
        </p:nvPicPr>
        <p:blipFill>
          <a:blip r:embed="rId3"/>
          <a:stretch/>
        </p:blipFill>
        <p:spPr>
          <a:xfrm>
            <a:off x="3786120" y="2000160"/>
            <a:ext cx="5286600" cy="3929040"/>
          </a:xfrm>
          <a:prstGeom prst="rect">
            <a:avLst/>
          </a:prstGeom>
          <a:ln w="0">
            <a:noFill/>
          </a:ln>
        </p:spPr>
      </p:pic>
      <p:sp>
        <p:nvSpPr>
          <p:cNvPr id="313" name="1 - Τίτλος"/>
          <p:cNvSpPr/>
          <p:nvPr/>
        </p:nvSpPr>
        <p:spPr>
          <a:xfrm>
            <a:off x="0" y="6215040"/>
            <a:ext cx="871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Επίσκεψη των μαθητών του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ου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ΕΠΑΛ Αμαρουσίο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- Τίτλος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240760" cy="1412640"/>
          </a:xfrm>
          <a:prstGeom prst="rect">
            <a:avLst/>
          </a:prstGeom>
          <a:ln w="0">
            <a:noFill/>
          </a:ln>
        </p:spPr>
      </p:pic>
      <p:sp>
        <p:nvSpPr>
          <p:cNvPr id="315" name="2 - Ορθογώνιο"/>
          <p:cNvSpPr/>
          <p:nvPr/>
        </p:nvSpPr>
        <p:spPr>
          <a:xfrm>
            <a:off x="357120" y="1571760"/>
            <a:ext cx="4286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Στο Vagonettο, το πρώτο και πιό εντυπωσιακό θεματικό πάρκο της χώρας μας, ακολουθούμε τα χνάρια των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μεταλλωρύχων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μέσα στις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υπόγειες στοές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με τα κοιτάσματα του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βωξίτη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σε ένα παλιό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μεταλλείο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στην καρδιά της Γκιώνας τη Στοά 850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2" descr="C:\Users\gram\Desktop\ΠΑΡΝΑΣΣΟΣ 2010\SLIDE SHOW\Vagonetto\IMGP1211.JPG"/>
          <p:cNvPicPr/>
          <p:nvPr/>
        </p:nvPicPr>
        <p:blipFill>
          <a:blip r:embed="rId2"/>
          <a:stretch/>
        </p:blipFill>
        <p:spPr>
          <a:xfrm>
            <a:off x="5143680" y="1643040"/>
            <a:ext cx="358920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- Τίτλος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8" name="3 - Εικόνα" descr="IMGP1251.JPG"/>
          <p:cNvPicPr/>
          <p:nvPr/>
        </p:nvPicPr>
        <p:blipFill>
          <a:blip r:embed="rId2"/>
          <a:stretch/>
        </p:blipFill>
        <p:spPr>
          <a:xfrm>
            <a:off x="642960" y="3287880"/>
            <a:ext cx="3952800" cy="2963520"/>
          </a:xfrm>
          <a:prstGeom prst="rect">
            <a:avLst/>
          </a:prstGeom>
          <a:ln w="0">
            <a:noFill/>
          </a:ln>
        </p:spPr>
      </p:pic>
      <p:sp>
        <p:nvSpPr>
          <p:cNvPr id="319" name="4 - Ορθογώνιο"/>
          <p:cNvSpPr/>
          <p:nvPr/>
        </p:nvSpPr>
        <p:spPr>
          <a:xfrm>
            <a:off x="428760" y="1571760"/>
            <a:ext cx="76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Η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εξόρυξη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του μεταλλεύματος πραγματοποιείται αρχικά με το σύστημα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τσάπα - κόφα - βαγόνι»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gram\Desktop\ΠΑΡΝΑΣΣΟΣ 2010\SLIDE SHOW\Vagonetto\χριστινα63.jpg"/>
          <p:cNvPicPr/>
          <p:nvPr/>
        </p:nvPicPr>
        <p:blipFill>
          <a:blip r:embed="rId3"/>
          <a:stretch/>
        </p:blipFill>
        <p:spPr>
          <a:xfrm>
            <a:off x="4856040" y="3286080"/>
            <a:ext cx="393084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1 - Τίτλος" descr=""/>
          <p:cNvPicPr/>
          <p:nvPr/>
        </p:nvPicPr>
        <p:blipFill>
          <a:blip r:embed="rId1"/>
          <a:stretch/>
        </p:blipFill>
        <p:spPr>
          <a:xfrm>
            <a:off x="-219240" y="262080"/>
            <a:ext cx="9528480" cy="1407960"/>
          </a:xfrm>
          <a:prstGeom prst="rect">
            <a:avLst/>
          </a:prstGeom>
          <a:ln w="0">
            <a:noFill/>
          </a:ln>
        </p:spPr>
      </p:pic>
      <p:sp>
        <p:nvSpPr>
          <p:cNvPr id="322" name="2 - Ορθογώνιο"/>
          <p:cNvSpPr/>
          <p:nvPr/>
        </p:nvSpPr>
        <p:spPr>
          <a:xfrm>
            <a:off x="500040" y="150012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Παρατηρώντας τα εκθέματα του Πάρκου, οι μαθητές συλλέγουν πληροφορίες σχετικά με την εξέλιξη των συνθηκών εργασίας και ασφάλειας μέσα σε ένα μεταλλεί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3 - Εικόνα" descr="IMGP1242.JPG"/>
          <p:cNvPicPr/>
          <p:nvPr/>
        </p:nvPicPr>
        <p:blipFill>
          <a:blip r:embed="rId2"/>
          <a:stretch/>
        </p:blipFill>
        <p:spPr>
          <a:xfrm>
            <a:off x="2500200" y="3322800"/>
            <a:ext cx="442908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- Τίτλος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25" name="2 - Εικόνα" descr="IMG_3665.JPG"/>
          <p:cNvPicPr/>
          <p:nvPr/>
        </p:nvPicPr>
        <p:blipFill>
          <a:blip r:embed="rId2"/>
          <a:stretch/>
        </p:blipFill>
        <p:spPr>
          <a:xfrm>
            <a:off x="571680" y="335772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326" name="3 - Εικόνα" descr="IMG_3666.JPG"/>
          <p:cNvPicPr/>
          <p:nvPr/>
        </p:nvPicPr>
        <p:blipFill>
          <a:blip r:embed="rId3"/>
          <a:stretch/>
        </p:blipFill>
        <p:spPr>
          <a:xfrm>
            <a:off x="4714920" y="335772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327" name="5 - Ορθογώνιο"/>
          <p:cNvSpPr/>
          <p:nvPr/>
        </p:nvSpPr>
        <p:spPr>
          <a:xfrm>
            <a:off x="428760" y="1571760"/>
            <a:ext cx="871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Η εξόρυξη γίνεται με την τσάπα και μεταφέρεται στα βαγόνια με την κόφα, ενώ η διακίνηση του βωξίτη γίνεται με χειροκίνητα ανατρεπόμενα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βαγόνια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, τους προπολεμικούς προγόνους του σημερινού Vagonet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3 - Εικόνα" descr="IMG_36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1 - Τίτλος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0" name="2 - Ορθογώνιο"/>
          <p:cNvSpPr/>
          <p:nvPr/>
        </p:nvSpPr>
        <p:spPr>
          <a:xfrm>
            <a:off x="214200" y="5657760"/>
            <a:ext cx="8929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Μέσα από ένα παιχνίδι ρόλων και φορώντας τα κράνη και τις στολές των μεταλλωρύχων οι μαθητές ανακαλύπτουν στοιχεία για τον τρόπο εργασίας σε μια Στοά εξόρυξης βωξίτη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8:14:10Z</dcterms:created>
  <dc:creator>gram</dc:creator>
  <dc:description/>
  <dc:language>en-US</dc:language>
  <cp:lastModifiedBy>gram</cp:lastModifiedBy>
  <dcterms:modified xsi:type="dcterms:W3CDTF">2010-05-16T13:24:46Z</dcterms:modified>
  <cp:revision>9</cp:revision>
  <dc:subject/>
  <dc:title>Ορυχεία</dc:title>
</cp:coreProperties>
</file>